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246-0095-4C3E-99EE-930C1C3B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FD3-FA10-48C1-97CD-08A5506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257-054F-46C5-9C93-E7A8404B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AEF-B2E7-4DA2-88AC-F6956060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CEA0-BD2E-4C43-8443-804C3040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295-FE4F-4BD8-8903-A64BBBA7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34B-81EE-4612-9EB6-1EB2394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242E-338F-4EBD-8E6B-8849F9E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1FCE-822E-4880-993E-0746BD93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C56-8C07-4FF6-89A2-B23BF68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A25-B75B-44C6-A1DC-92A0FA57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C21-3C16-4E10-BCEF-04FC5E3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31D-8338-4DB9-9F1D-9DF2D2E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2A9D-70FD-46C5-B707-0B6F976F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2C77-FBD5-46CC-B577-D1F8258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B23-B9BB-47D6-970B-18E6EB26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345-66B4-4BE8-92BA-BE277A24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1A4-42D4-439E-BCB5-7004643E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644-FAC3-42C8-B59D-CCA9BBEA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A47-8969-4FC8-B023-364E4BB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4EE-9254-4DC6-9290-0AC89D49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5D0-79C0-4B5F-A3A2-D295080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6E4-42B9-41C4-9DE8-355A113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757-EC70-4D54-9AA1-BE70BFF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1D40-30F6-4AF3-93E4-09570389DB12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A110-7438-4E03-B57A-7B22689D57D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ademic Counci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vember 13,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mplementation Timelin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3 Academic Council-Create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19 Department - Review/Edit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1 Submit Revisions to L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7 Faculty Meeting - Review Rubri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1/28-11/30 Classroom Walkthrough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5 Academic Council 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2/11 Department Mtg- Review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mall Group 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16292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1) What observable evidence of best practices and teaching methodologies to ensure student learning, should we see in any classroom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2) How do these connect with 21st Century Learning Skill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3) How do they connect to UbD &amp; DI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 of Frequ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ives a cycle of continuous improve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tter awareness of instructional strategies and school clim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egial (less hierarchal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re collabora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requent visits lower teacher apprehension over tim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to Classroom Obser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consum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 deal of paper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on only 1 tea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school-wide data col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es not provide for a school-wide snapsho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assroom Walk-through Model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-5 minute classroom vis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t/Rubric to check-off observable evidence in the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d by teachers, for teachers, for school-wide impro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chool-wide snapshot, not focused on individual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collection is quick to provide immediate feedback for instructional growt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use Classroom Walkthroughs. . .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erates conversations about instruction and curriculu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s a springboard for professional development based on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cuses attention on implementation of best practi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 for Developing Schoolwide Walk-Through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ubric is created by teach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partment Chairs participate in walk-through with administrato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ducted over a short (1 week) time perio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synthesiz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ata is disseminated to all staff in a short time following the walkthroug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s within Academic Council, Departments, Faculty Meetings about Instruction and Student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uring the Walk-Through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m observes a classroom for 5 minut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the observation they are noticing evidence that corresponds to their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check-off what they se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the observation they quickly confer about the observation and align their chart dat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Chart Categor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structional Behavio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ecking for Understan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gnitive Strategi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igher Order Thinking Tas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ing Techniqu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assroom Environ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ample Rubric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2590920"/>
          <a:ext cx="8229600" cy="279072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838080"/>
                <a:gridCol w="914400"/>
                <a:gridCol w="914400"/>
                <a:gridCol w="838440"/>
                <a:gridCol w="990360"/>
                <a:gridCol w="990720"/>
                <a:gridCol w="685800"/>
              </a:tblGrid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assroom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mall Group Teaching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Higher Order Thinking 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’s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Formal Assess-ment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Reading Strategy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ech Integra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Quick , Smooth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ransition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lear Rubric</a:t>
                      </a:r>
                      <a:endParaRPr b="0" lang="en-US" sz="13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9:24:10Z</dcterms:created>
  <dc:creator>Office 2004 Test Drive User</dc:creator>
  <dc:description/>
  <dc:language>en-US</dc:language>
  <cp:lastModifiedBy>Office 2004 Test Drive User</cp:lastModifiedBy>
  <cp:lastPrinted>2007-11-05T22:15:44Z</cp:lastPrinted>
  <dcterms:modified xsi:type="dcterms:W3CDTF">2007-11-13T22:00:17Z</dcterms:modified>
  <cp:revision>6</cp:revision>
  <dc:subject/>
  <dc:title>Classroom Walk-Through</dc:title>
</cp:coreProperties>
</file>